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5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ch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1200" y="549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endCxn id="101" idx="1"/>
          </p:cNvCxnSpPr>
          <p:nvPr/>
        </p:nvCxnSpPr>
        <p:spPr>
          <a:xfrm flipV="1">
            <a:off x="3313080" y="2729520"/>
            <a:ext cx="2699280" cy="135216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endCxn id="103" idx="1"/>
          </p:cNvCxnSpPr>
          <p:nvPr/>
        </p:nvCxnSpPr>
        <p:spPr>
          <a:xfrm flipV="1">
            <a:off x="3313080" y="4080600"/>
            <a:ext cx="2699280" cy="7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4320" y="54936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pat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su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955440" y="54936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9" idx="3"/>
            <a:endCxn id="17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69" idx="3"/>
            <a:endCxn id="17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1012320" y="549360"/>
            <a:ext cx="51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6200" y="549360"/>
            <a:ext cx="67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7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lastung ↑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2" idx="3"/>
            <a:endCxn id="18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75680" y="549360"/>
            <a:ext cx="66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offwechsel ↑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3"/>
            <a:endCxn id="188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9" name=""/>
          <p:cNvCxnSpPr>
            <a:stCxn id="186" idx="3"/>
            <a:endCxn id="19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1" name=""/>
          <p:cNvCxnSpPr>
            <a:stCxn id="186" idx="3"/>
            <a:endCxn id="192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493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alorienverbrauch ↑ &gt; 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7720" y="549360"/>
            <a:ext cx="78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alorienverbrauch ↑ &gt; „jemand frisst mit“ &gt; 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9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42840" y="54936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14120" y="549360"/>
            <a:ext cx="52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2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21" idx="3"/>
            <a:endCxn id="12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2440" y="54936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9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78920" y="549360"/>
            <a:ext cx="69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3"/>
            <a:endCxn id="13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6" name=""/>
          <p:cNvCxnSpPr>
            <a:stCxn id="133" idx="3"/>
            <a:endCxn id="137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8200" y="549360"/>
            <a:ext cx="71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41400" y="54936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loriengehalt des 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3"/>
            <a:endCxn id="14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r andere Spezi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Altersstuf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tungsgrup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gane Fütt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3"/>
            <a:endCxn id="14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9" name=""/>
          <p:cNvCxnSpPr>
            <a:stCxn id="145" idx="3"/>
            <a:endCxn id="14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948600" y="54936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3600" y="549360"/>
            <a:ext cx="46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ch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Ente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1:16Z</dcterms:modified>
  <cp:revision>328</cp:revision>
  <dc:subject/>
  <dc:title>Vorstellung einer Neuheit</dc:title>
</cp:coreProperties>
</file>